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BAD2-CB1D-470E-B867-C615AD84A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rbhs-sbi3u03.wikispaces.com/12.5+Transport+in+Vascular+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.howstuffworks.com/dictionary/plant-terms/root-info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4fcorner.files.wordpress.com/2013/03/img_6223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mons.wikimedia.org/wiki/File:Acer-saccharinum-leaves-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E35D-1EBF-4FB5-AF75-385BFDA3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41AA-177E-4B30-BCEE-90FAEA55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7200-27F9-441D-BEB9-537A2A0C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D59F-23DF-4664-90A9-63B24FBF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C0EF-4F19-461A-B795-7591E492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7FBB-34B8-4D47-A410-56186FCC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AEFC-6EA5-40A5-B9FC-32844BEF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A95-9174-415B-A730-1884D920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F07D-C180-4B86-9E6C-4FE142E6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54E-59D7-4AE8-A671-8FEE4C70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72C-5651-4369-ADF9-7EEC35B4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1C52-141F-4C88-BB45-97B2300F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2D85-0E82-47AC-9C39-F627BAF2A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in Vascular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cular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y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ports nutrients in the soil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s are transported only i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into the R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moves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ents move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quires energ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221440" y="1676520"/>
            <a:ext cx="25873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into the 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s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rom nutrients moving into the roots) pushes xylem sap up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ill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helps with moving xylem sap upwar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38760" y="160020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to the 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pi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vaporation of water) pulls water up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343400" y="2252520"/>
            <a:ext cx="426708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of Sug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ny cell with a high concentration of sug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ny cell with a low concentration of sug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of source &amp; sink cells may change depending on stage or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 to Ph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transport from source cells to ph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moves into phloem through osm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o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long-distance transport of substances through the ph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loem to S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s diffuse from phloem into the sink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moves into phloem through osm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3T09:59:45Z</dcterms:created>
  <dc:creator>rubina khan</dc:creator>
  <dc:description/>
  <dc:language>en-US</dc:language>
  <cp:lastModifiedBy>rubina khan</cp:lastModifiedBy>
  <dcterms:modified xsi:type="dcterms:W3CDTF">2013-06-03T10:20:43Z</dcterms:modified>
  <cp:revision>28</cp:revision>
  <dc:subject/>
  <dc:title>PowerPoint Presentation</dc:title>
</cp:coreProperties>
</file>